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28.jpeg" ContentType="image/jpeg"/>
  <Override PartName="/ppt/media/image37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A6D-6C82-422A-8CE8-AF03151F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741-FAA5-4FDD-B098-FCE356B8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01A-CD7D-4092-B10B-DB452D8E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C97-B454-4CCB-B10C-39202666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43C-0099-4634-862F-39D27529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E79A-CE0C-470A-BF92-F513402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911B-D5C2-4DB1-BFD3-7A7D2B58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F775-7C80-4ACD-82BA-314C426A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9E08-8DE3-4DE3-AC0C-C98FCE32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F772-30D9-42B9-AAD3-C9B797C7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BCB4-DC8B-4E23-88B2-D51BAF9A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784-EAB6-48EE-8995-A9E8F524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504E-9D9B-4EFC-B793-FDBFE77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7E77-A8C4-411E-BA95-955C9EFF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CDBB-B96F-4427-B9A2-04BA2D95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E72F-17B0-4DB6-A3ED-F5909E00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4FEA-3DA4-4D20-B511-A8100622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23A3-A978-4DB1-876D-19AE8BA5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72D4-CC17-4B71-91FD-899D1396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E791-6C21-4D2A-B423-33211386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BF56-B831-49B7-BDBA-1DB88674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6234-FDD0-4ED1-82A8-F8BF3791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5E7-A0FC-4A78-AEBD-56937E2A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AC85-BF92-4A54-9BCD-28CF51F5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2436B-2671-45BB-A7F6-443B36B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BB59-F244-45F7-99C3-62EE5250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E7AA-48FA-4976-8C7B-DA9144FD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25E9-B63D-4566-A339-75870A1A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EB8D-81B5-429B-BD85-EFAEA7F7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DD6C-D8D6-4CDA-906A-45F144FB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BC52-8CDB-4760-9BE8-B15446B6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8E95-104C-445E-9C21-35F383F5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22456-E1EB-4152-AC72-29884C3D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C5F-E55A-4806-8D5D-777C11E3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AFCF-BD39-4027-9856-3C4FA64E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83EE-1B64-47DE-842D-252EFA46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772C-753E-425D-A3F3-CB33D4B1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B3CEF-D308-4579-BD54-656DFF2D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521C-2691-435E-A1B1-0BF51342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CB27-6427-40E1-BF83-D5B86F56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2EF18-24F6-4CC0-99CC-2669B9B9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F5FE-2732-45DC-8114-E18FC7F5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4E91-E786-45C1-B5B3-1727989A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97E-F48D-4F62-8858-EC1B033E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0B9-6AB8-401D-B509-402AC721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2C0-9A57-49AE-9794-3C2B286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A25-8CD4-4D45-A4FA-7A90DCF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016-C365-4850-B8AB-DBE2BF8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41A5-ED54-4678-8014-3DF0FF16BAA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317F-D14C-487C-8822-1EADE865E99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4790-FB08-4CDD-9764-AB9557499DA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CCAF-7760-4B03-97FD-ECC2F77794E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eonid_Golikov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javascript:window.open(&apos;./pic/gol.jpg&apos;,&apos;discount1&apos;,&apos;width=540,height=540,scrollbars&apos;);void(0);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f/Hero_of_the_Soviet_Union_medal.pn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ru.wikipedia.org/wiki/&#1060;&#1072;&#1081;&#1083;:L_Golikov.JPG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2;&#1072;&#1083;&#1077;&#1088;&#1072;_&#1042;&#1086;&#1083;&#1082;&#1086;&#1074;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ru.wikipedia.org/wiki/&#1060;&#1072;&#1081;&#1083;:ValaKotyk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javascript:window.open(&apos;./pic/gol.jpg&apos;,&apos;discount1&apos;,&apos;width=540,height=540,scrollbars&apos;);void(0);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ru.wikipedia.org/wiki/&#1060;&#1072;&#1081;&#1083;:Order_of_the_Patriotic_War_(1st_class).png" TargetMode="Externa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hyperlink" Target="http://ru.wikipedia.org/wiki/&#1060;&#1072;&#1081;&#1083;:Medal_for_Valor_USSR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2;&#1086;&#1083;&#1086;&#1076;&#1103;_&#1044;&#1091;&#1073;&#1080;&#1085;&#1080;&#1085;.jpeg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go.mail.ru/frame.html?q=%E2%EE%EB%EE%E4%FF%20%E4%F3%E1%E8%ED%E8%ED&amp;rch=l&amp;jsa=1&amp;sf=0&amp;cf=12&amp;type=all" TargetMode="External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1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javascript:window.open(&apos;./pic/kotik.jpg&apos;,&apos;discount1&apos;,&apos;width=540,height=540,scrollbars&apos;);void(0);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f/Hero_of_the_Soviet_Union_medal.pn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ru.wikipedia.org/wiki/&#1060;&#1072;&#1081;&#1083;:Order_of_Lenin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ru.wikipedia.org/wiki/&#1060;&#1072;&#1081;&#1083;:Order_of_the_Patriotic_War_(1st_class).png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ru.wikipedia.org/wiki/&#1060;&#1072;&#1081;&#1083;:Partisan_Medal_1st.jpg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javascript:window.open(&apos;./pic/mih.jpg&apos;,&apos;discount1&apos;,&apos;width=520,height=500,scrollbars&apos;);void(0);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go.mail.ru/frame.html?q=%EB%E0%F0%E0%20%EC%E8%F5%E5%E5%ED%EA%EE&amp;rch=l&amp;jsa=1&amp;sf=0&amp;cf=0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u.wikipedia.org/wiki/&#1060;&#1072;&#1081;&#1083;:Order_of_the_Patriotic_War_(1st_class).pn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javascript:window.open(&apos;./pic/borod.jpg&apos;,&apos;discount1&apos;,&apos;width=520,height=520,scrollbars&apos;);void(0);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ru.wikipedia.org/wiki/&#1060;&#1072;&#1081;&#1083;:Order_of_Red_Banner.png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window.open(&apos;./pic/uta.jpg&apos;,&apos;discount1&apos;,&apos;width=500,height=500,scrollbars&apos;);void(0);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hyperlink" Target="http://ru.wikipedia.org/wiki/&#1060;&#1072;&#1081;&#1083;:Order_of_the_Patriotic_War_(1st_class).png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C%E0%F0%E0%F2%20%EA%E0%E7%E5%E9&amp;rch=l&amp;jsa=1&amp;sf=0&amp;cf=2&amp;type=all" TargetMode="External"/><Relationship Id="rId2" Type="http://schemas.openxmlformats.org/officeDocument/2006/relationships/image" Target="../media/image22.jpeg"/><Relationship Id="rId3" Type="http://schemas.openxmlformats.org/officeDocument/2006/relationships/hyperlink" Target="javascript:window.open(&apos;./pic/kaz.jpg&apos;,&apos;discount1&apos;,&apos;width=530,height=530,scrollbars&apos;);void(0);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ru.wikipedia.org/wiki/&#1060;&#1072;&#1081;&#1083;:&#1052;&#1072;&#1088;&#1072;&#1090;.jpg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go.mail.ru/frame.html?q=%EC%E0%F0%E0%F2%20%EA%E0%E7%E5%E9&amp;rch=l&amp;jsa=1&amp;sf=0&amp;cf=0&amp;type=all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go.mail.ru/frame.html?q=%EC%E0%F0%E0%F2%20%EA%E0%E7%E5%E9&amp;rch=l&amp;jsa=1&amp;sf=0&amp;cf=3&amp;type=all" TargetMode="External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f/Hero_of_the_Soviet_Union_medal.pn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ru.wikipedia.org/wiki/&#1060;&#1072;&#1081;&#1083;:Order_of_the_Patriotic_War_(1st_class).png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ru.wikipedia.org/wiki/&#1060;&#1072;&#1081;&#1083;:Order_of_Lenin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ru.wikipedia.org/wiki/&#1060;&#1072;&#1081;&#1083;:Medal_for_Valor_USSR.jpg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ru.wikipedia.org/wiki/&#1060;&#1072;&#1081;&#1083;:Medal_for_Combat_Service.jpg" TargetMode="External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93560" y="566640"/>
            <a:ext cx="8547120" cy="1895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520" y="3228840"/>
            <a:ext cx="8253360" cy="2557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Constantia"/>
              </a:rPr>
              <a:t>Автор: Синарецкая Галина Николае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Constantia"/>
              </a:rPr>
              <a:t>учитель начальных клас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Constantia"/>
              </a:rPr>
              <a:t>Краснодарский край, г.Кропотки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Constantia"/>
              </a:rPr>
              <a:t>МБОУ СОШ №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еня Голиков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Содержимое 4" descr="http://upload.wikimedia.org/wikipedia/ru/2/2d/Leonid_Goli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071720"/>
            <a:ext cx="3286080" cy="4000320"/>
          </a:xfrm>
          <a:prstGeom prst="rect">
            <a:avLst/>
          </a:prstGeom>
          <a:ln w="0">
            <a:noFill/>
          </a:ln>
        </p:spPr>
      </p:pic>
      <p:pic>
        <p:nvPicPr>
          <p:cNvPr id="245" name="Содержимое 5" descr="Леня Голиков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760" y="2071800"/>
            <a:ext cx="3357360" cy="354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440" y="1434960"/>
            <a:ext cx="29494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Герой Советского Сою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(Посмертно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Рисунок 4" descr="Файл:Hero of the Soviet Union med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781360"/>
            <a:ext cx="1366920" cy="26715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http://upload.wikimedia.org/wikipedia/ru/thumb/6/6d/L_Golikov.JPG/210px-L_Golikov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33880" y="857160"/>
            <a:ext cx="3652920" cy="521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52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алерий Волков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Содержимое 4" descr="Валера Волков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4000680"/>
            <a:ext cx="1511280" cy="14396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6" descr="ValaKoty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2205000"/>
            <a:ext cx="1898640" cy="233856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5" descr="Леня Голиков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6680" y="714240"/>
            <a:ext cx="2192040" cy="222120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7"/>
          <p:cNvSpPr/>
          <p:nvPr/>
        </p:nvSpPr>
        <p:spPr>
          <a:xfrm>
            <a:off x="3429000" y="32148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Орден Отече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ой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мер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Содержимое 4" descr="Order of the Patriotic War (1st class)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429080"/>
            <a:ext cx="1905120" cy="200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и́тя Коробко́в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Содержимое 4" descr="637px-%D0%92%D0%9F_%D0%BF%D0%B0%D0%BC%D1%8F%D1%82%D0%BD%D0%B8%D0%BA_%D0%9A%D0%BE%D1%80%D0%BE%D0%B1%D0%BA%D0%BE%D0%B2%D1%83.jpg"/>
          <p:cNvPicPr/>
          <p:nvPr/>
        </p:nvPicPr>
        <p:blipFill>
          <a:blip r:embed="rId1"/>
          <a:stretch/>
        </p:blipFill>
        <p:spPr>
          <a:xfrm>
            <a:off x="465120" y="2133720"/>
            <a:ext cx="4038480" cy="379872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5" descr="коробков.jpg"/>
          <p:cNvPicPr/>
          <p:nvPr/>
        </p:nvPicPr>
        <p:blipFill>
          <a:blip r:embed="rId2"/>
          <a:stretch/>
        </p:blipFill>
        <p:spPr>
          <a:xfrm>
            <a:off x="4656240" y="2421000"/>
            <a:ext cx="4038480" cy="33861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6" descr="Medal for Valor USS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57960" y="357120"/>
            <a:ext cx="1425600" cy="28036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7"/>
          <p:cNvSpPr/>
          <p:nvPr/>
        </p:nvSpPr>
        <p:spPr>
          <a:xfrm>
            <a:off x="4716360" y="1268280"/>
            <a:ext cx="21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аль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За отва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(Посмер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олодя Дубинин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Содержимое 4" descr="Володя Дубинин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708280"/>
            <a:ext cx="1841760" cy="29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_self" descr="http://preview.gogo.ru/urlpreview?url=i.i.ua/photo/images/pic/3/0/1532803_dadb619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92280"/>
            <a:ext cx="1594080" cy="20332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Орден Красного Знамени"/>
          <p:cNvPicPr/>
          <p:nvPr/>
        </p:nvPicPr>
        <p:blipFill>
          <a:blip r:embed="rId5"/>
          <a:stretch/>
        </p:blipFill>
        <p:spPr>
          <a:xfrm>
            <a:off x="4211640" y="2892600"/>
            <a:ext cx="1947960" cy="39654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7"/>
          <p:cNvSpPr/>
          <p:nvPr/>
        </p:nvSpPr>
        <p:spPr>
          <a:xfrm>
            <a:off x="2843280" y="206064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rbel"/>
                <a:ea typeface="Times New Roman"/>
              </a:rPr>
              <a:t>Орден Красного Знамени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(Посмер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и́на Портно́ва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Содержимое 4" descr="Portnova Zina.jpg"/>
          <p:cNvPicPr/>
          <p:nvPr/>
        </p:nvPicPr>
        <p:blipFill>
          <a:blip r:embed="rId1"/>
          <a:stretch/>
        </p:blipFill>
        <p:spPr>
          <a:xfrm>
            <a:off x="826920" y="2060640"/>
            <a:ext cx="1629000" cy="2381040"/>
          </a:xfrm>
          <a:prstGeom prst="rect">
            <a:avLst/>
          </a:prstGeom>
          <a:ln w="0">
            <a:noFill/>
          </a:ln>
        </p:spPr>
      </p:pic>
      <p:pic>
        <p:nvPicPr>
          <p:cNvPr id="267" name="pic_self" descr="http://gogo.ru/preview?id=13918365"/>
          <p:cNvPicPr/>
          <p:nvPr/>
        </p:nvPicPr>
        <p:blipFill>
          <a:blip r:embed="rId2"/>
          <a:stretch/>
        </p:blipFill>
        <p:spPr>
          <a:xfrm>
            <a:off x="3492360" y="2349360"/>
            <a:ext cx="1068480" cy="1519200"/>
          </a:xfrm>
          <a:prstGeom prst="rect">
            <a:avLst/>
          </a:prstGeom>
          <a:ln w="0">
            <a:noFill/>
          </a:ln>
        </p:spPr>
      </p:pic>
      <p:pic>
        <p:nvPicPr>
          <p:cNvPr id="268" name="pic_self" descr="http://preview.gogo.ru/urlpreview?url=img-fotki.yandex.ru/get/3204/juryno.0/0_1c9bc_620af9a0_XL"/>
          <p:cNvPicPr/>
          <p:nvPr/>
        </p:nvPicPr>
        <p:blipFill>
          <a:blip r:embed="rId3"/>
          <a:stretch/>
        </p:blipFill>
        <p:spPr>
          <a:xfrm>
            <a:off x="6588000" y="3429000"/>
            <a:ext cx="1995480" cy="13003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7" descr="Order of Lenin.jpg"/>
          <p:cNvPicPr/>
          <p:nvPr/>
        </p:nvPicPr>
        <p:blipFill>
          <a:blip r:embed="rId4"/>
          <a:stretch/>
        </p:blipFill>
        <p:spPr>
          <a:xfrm>
            <a:off x="5364000" y="404640"/>
            <a:ext cx="1425600" cy="27781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8" descr="Файл:Hero of the Soviet Union medal.png"/>
          <p:cNvPicPr/>
          <p:nvPr/>
        </p:nvPicPr>
        <p:blipFill>
          <a:blip r:embed="rId5"/>
          <a:stretch/>
        </p:blipFill>
        <p:spPr>
          <a:xfrm>
            <a:off x="4932360" y="3645000"/>
            <a:ext cx="1365120" cy="26715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9"/>
          <p:cNvSpPr/>
          <p:nvPr/>
        </p:nvSpPr>
        <p:spPr>
          <a:xfrm>
            <a:off x="6622920" y="112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Орден Ле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755640" y="472428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Герой Советского 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(Посмер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Юные герои-антифашисты, это такие же дети как вы , ребят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и боролись за то, чтобы Мир был во всём Мир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бы люди не гибли от рук террористов, бандитов, чтобы не было фашизма на Зем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28440" y="4071960"/>
            <a:ext cx="75150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c00000"/>
                </a:solidFill>
                <a:latin typeface="Calibri"/>
              </a:rPr>
              <a:t>Герои никогда не умирают, </a:t>
            </a:r>
            <a:br>
              <a:rPr sz="6600"/>
            </a:br>
            <a:r>
              <a:rPr b="0" lang="ru-RU" sz="6600" spc="-1" strike="noStrike">
                <a:solidFill>
                  <a:srgbClr val="c00000"/>
                </a:solidFill>
                <a:latin typeface="Calibri"/>
              </a:rPr>
              <a:t>Герои в нашей памяти живут!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71640" y="620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Никто не забыт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И ничто не забыто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Рисунок 3" descr="К 60-летию Великой Победы. Эх, и наподдали мы им тогда!!! А потом ещё 40 лет терзали!!! Ничего, в другой раз неповадно будет!!!"/>
          <p:cNvPicPr/>
          <p:nvPr/>
        </p:nvPicPr>
        <p:blipFill>
          <a:blip r:embed="rId1"/>
          <a:stretch/>
        </p:blipFill>
        <p:spPr>
          <a:xfrm>
            <a:off x="3851280" y="400536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822960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Юные пионеры -  герои Советского Союз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аля Котик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Содержимое 5" descr="600x600,fs-NASEDKIN-04,016,016.jpg"/>
          <p:cNvPicPr/>
          <p:nvPr/>
        </p:nvPicPr>
        <p:blipFill>
          <a:blip r:embed="rId1"/>
          <a:stretch/>
        </p:blipFill>
        <p:spPr>
          <a:xfrm>
            <a:off x="5643720" y="357120"/>
            <a:ext cx="300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4" descr="Котик Валя "/>
          <p:cNvPicPr/>
          <p:nvPr/>
        </p:nvPicPr>
        <p:blipFill>
          <a:blip r:embed="rId2"/>
          <a:stretch/>
        </p:blipFill>
        <p:spPr>
          <a:xfrm>
            <a:off x="928800" y="1357200"/>
            <a:ext cx="2071440" cy="30006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Валя Кот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786120"/>
            <a:ext cx="2571840" cy="25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55280" y="3499920"/>
            <a:ext cx="2444760" cy="1297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6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даль 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Партизану Отечественной войн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II степен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Содержимое 4" descr="Файл:Hero of the Soviet Union med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4640"/>
            <a:ext cx="1362240" cy="26672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Order of Le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981000"/>
            <a:ext cx="1423800" cy="27781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Order of the Patriotic War (1st class)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4941720"/>
            <a:ext cx="1424160" cy="15084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7" descr="Partisan Medal 1s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19640" y="3789360"/>
            <a:ext cx="1425240" cy="271944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8"/>
          <p:cNvSpPr/>
          <p:nvPr/>
        </p:nvSpPr>
        <p:spPr>
          <a:xfrm>
            <a:off x="755640" y="32446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Герой Советского 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(Посмер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9"/>
          <p:cNvSpPr/>
          <p:nvPr/>
        </p:nvSpPr>
        <p:spPr>
          <a:xfrm>
            <a:off x="4932360" y="260280"/>
            <a:ext cx="316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рден Ле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0"/>
          <p:cNvSpPr/>
          <p:nvPr/>
        </p:nvSpPr>
        <p:spPr>
          <a:xfrm>
            <a:off x="5580000" y="3860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рден Отечественной вой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степ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Лара Михеенк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6" descr="Лара Михеен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4357800"/>
            <a:ext cx="2502000" cy="2319120"/>
          </a:xfrm>
          <a:prstGeom prst="rect">
            <a:avLst/>
          </a:prstGeom>
          <a:ln w="0">
            <a:noFill/>
          </a:ln>
        </p:spPr>
      </p:pic>
      <p:pic>
        <p:nvPicPr>
          <p:cNvPr id="212" name="pic_self" descr="http://foto.mail.ru/inbox/estonija/_myphoto/p-6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2276640"/>
            <a:ext cx="2786040" cy="26431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8" descr="Order of the Patriotic War (1st class)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29120" y="2214720"/>
            <a:ext cx="2068560" cy="2008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4788000" y="889200"/>
            <a:ext cx="43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7030a0"/>
                </a:solidFill>
                <a:latin typeface="Corbel"/>
                <a:ea typeface="Times New Roman"/>
              </a:rPr>
              <a:t>Орд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rbel"/>
                <a:ea typeface="Times New Roman"/>
              </a:rPr>
              <a:t>Отечественной войны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1 степ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(Посмер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аша Бородулин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Орден Красного Зна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Содержимое 3" descr="Саша Бородулин"/>
          <p:cNvPicPr/>
          <p:nvPr/>
        </p:nvPicPr>
        <p:blipFill>
          <a:blip r:embed="rId1"/>
          <a:stretch/>
        </p:blipFill>
        <p:spPr>
          <a:xfrm>
            <a:off x="1471680" y="3129120"/>
            <a:ext cx="2009880" cy="26193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Саша Бородули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3720" y="1714680"/>
            <a:ext cx="2857320" cy="2928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Order of Red Banner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64000" y="2492280"/>
            <a:ext cx="142884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Содержимое 5" descr="Юта Бондаровска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428760"/>
            <a:ext cx="2786040" cy="2876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214680" y="3357360"/>
            <a:ext cx="2514600" cy="2160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Медал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onstantia"/>
              </a:rPr>
              <a:t>Партизану Отечественной войны</a:t>
            </a:r>
            <a:r>
              <a:rPr b="1" lang="ru-RU" sz="22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1 степени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  <a:ea typeface="Times New Roman"/>
              </a:rPr>
              <a:t>(Посмертно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Содержимое 4" descr="МЕДАЛЬ «ПАРТИЗАНУ ОТЕЧЕСТВЕННОЙ ВОЙНЫ» 2 СТЕПЕНИ"/>
          <p:cNvPicPr/>
          <p:nvPr/>
        </p:nvPicPr>
        <p:blipFill>
          <a:blip r:embed="rId3"/>
          <a:stretch/>
        </p:blipFill>
        <p:spPr>
          <a:xfrm>
            <a:off x="4214880" y="3000240"/>
            <a:ext cx="1928880" cy="32864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Order of the Patriotic War (1st class)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836640"/>
            <a:ext cx="1996920" cy="2293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6"/>
          <p:cNvSpPr/>
          <p:nvPr/>
        </p:nvSpPr>
        <p:spPr>
          <a:xfrm>
            <a:off x="4067280" y="476280"/>
            <a:ext cx="50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рденом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Содержимое 4" descr="Дети-герои"/>
          <p:cNvPicPr/>
          <p:nvPr/>
        </p:nvPicPr>
        <p:blipFill>
          <a:blip r:embed="rId6"/>
          <a:stretch/>
        </p:blipFill>
        <p:spPr>
          <a:xfrm>
            <a:off x="1214280" y="3286080"/>
            <a:ext cx="1952640" cy="27860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6"/>
          <p:cNvSpPr/>
          <p:nvPr/>
        </p:nvSpPr>
        <p:spPr>
          <a:xfrm>
            <a:off x="285840" y="614988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арат Казей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_self" descr="http://gogo.ru/preview?id=139181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500120"/>
            <a:ext cx="1928880" cy="26431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Марат Казей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284640"/>
            <a:ext cx="3000240" cy="27860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Марат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29120" y="214200"/>
            <a:ext cx="3824280" cy="3159360"/>
          </a:xfrm>
          <a:prstGeom prst="rect">
            <a:avLst/>
          </a:prstGeom>
          <a:ln w="0">
            <a:noFill/>
          </a:ln>
        </p:spPr>
      </p:pic>
      <p:pic>
        <p:nvPicPr>
          <p:cNvPr id="231" name="pic_self" descr="http://preview.gogo.ru/urlpreview?url=img-2003-05.photosight.ru/06/203629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4508640"/>
            <a:ext cx="1928880" cy="2000160"/>
          </a:xfrm>
          <a:prstGeom prst="rect">
            <a:avLst/>
          </a:prstGeom>
          <a:ln w="0">
            <a:noFill/>
          </a:ln>
        </p:spPr>
      </p:pic>
      <p:pic>
        <p:nvPicPr>
          <p:cNvPr id="232" name="pic_self" descr="http://gogo.ru/preview?id=9162556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16720" y="4292640"/>
            <a:ext cx="2376360" cy="23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65120" y="2133720"/>
            <a:ext cx="40384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onstantia"/>
              </a:rPr>
              <a:t>Орден Лен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Содержимое 4" descr="Файл:Hero of the Soviet Union med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907920"/>
            <a:ext cx="1361880" cy="26672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7"/>
          <p:cNvSpPr/>
          <p:nvPr/>
        </p:nvSpPr>
        <p:spPr>
          <a:xfrm>
            <a:off x="324000" y="549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рден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степ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8" descr="Order of the Patriotic War (1st class)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1052640"/>
            <a:ext cx="1424160" cy="15080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1"/>
          <p:cNvSpPr/>
          <p:nvPr/>
        </p:nvSpPr>
        <p:spPr>
          <a:xfrm>
            <a:off x="2286000" y="3068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едаль «За боевые заслу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2" descr="Order of Leni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2708280"/>
            <a:ext cx="1425600" cy="2779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Medal for Valor USSR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2852640"/>
            <a:ext cx="1428480" cy="2800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Medal for Combat Servic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27280" y="4076640"/>
            <a:ext cx="1428840" cy="26384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3"/>
          <p:cNvSpPr/>
          <p:nvPr/>
        </p:nvSpPr>
        <p:spPr>
          <a:xfrm>
            <a:off x="5076720" y="33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Герой Советского Сою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(Посмер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4"/>
          <p:cNvSpPr/>
          <p:nvPr/>
        </p:nvSpPr>
        <p:spPr>
          <a:xfrm>
            <a:off x="5219640" y="5732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едаль «За отва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17:48Z</dcterms:created>
  <dc:creator>Leskova</dc:creator>
  <dc:description/>
  <dc:language>en-US</dc:language>
  <cp:lastModifiedBy>имя</cp:lastModifiedBy>
  <dcterms:modified xsi:type="dcterms:W3CDTF">2015-03-31T16:55:40Z</dcterms:modified>
  <cp:revision>31</cp:revision>
  <dc:subject/>
  <dc:title>День юного героя - антифашиста</dc:title>
</cp:coreProperties>
</file>